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7838-21FA-4CE7-92D5-C5CAD51A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2977-C85D-414D-8FB6-8BB1216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F035-2AFC-41A0-BA8B-29397EEA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B475-7FC2-4284-A66A-3CC644CB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CC03-8238-4E8B-B2E6-552E05BC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F1F7-9B1E-45DE-87CF-10A66871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2858-C18F-47B9-8E72-81728D6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7375-066D-452A-8626-9C57332A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D280-5A41-4D8A-AB15-E829A3C1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B7A9-6DFB-43AF-8409-AA3DCE71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A7B-19CE-4F14-8D40-3001639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B192-1355-495F-8816-A347F1A7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53DC-0A73-4ACC-8A0A-ED866FF0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00B2-389C-43FE-9855-D5BEC2FF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FA9B-40E3-4F90-BFAB-4F0C02C7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0A59-0715-4BB4-8B01-BA48E664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7EE-AC30-4341-A6A9-A2531A52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4F00-58C9-4917-8A8B-15750A69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BC21-AC64-4607-B37C-DF989180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DC84-8B41-415F-ABA7-A81015C7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F538-6ABA-4BA6-BCE8-27426AF1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7099-77D8-453F-A6EE-3A6692B7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1F3A-96F9-4800-BC74-DEFD8C6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7A6F-0E2D-494F-BB10-D39F9FB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07D4-C99D-40F0-8861-D00C3414D9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444D-16AF-4C5C-99E1-153124C1C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e United Kingdom,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2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The Reign of Solomon”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Kings 1:1-53; 1 Chron. 29:22-2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ges 107-11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10080" y="228600"/>
            <a:ext cx="358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-rogel Spring: (Job's Well) This spring or well lay just outside the southern walls of Jerusalem, a little over 300 feet south of where the Hinnom and Kidron valleys join. It is today referred to as Job's Well. The name "En-rogel" means "fountain of a traveller" in the Hebrew. The well was used to mark the northern boundary of Judah (Josh. 15:7).  It was here that David's son Adonijah attempted to have himself proclaimed heir to David's throne (1 Kings 1:9).  In response, the prophet Nathan prompted Bathsheba to go to David to have him proclaim her son Solomon as king (1 Kings 1:11-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886200"/>
            <a:ext cx="762120" cy="228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408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657600" y="2971800"/>
            <a:ext cx="91440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4120" y="2438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nnom Valley from Mount Z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au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Solom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t’s Set The Stage -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is 70 years old – frail and near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elected Solomon, David’s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n, to rule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– young and inexperi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nnounced that Solomon would  succe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blueprints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materials and organized the people to build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Brief Survey of the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fe of Solom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ellion of Adon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deal with David’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God for wis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ion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from the Queen of 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arriages with foreig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alling way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was frail, bedfast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sh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beautiful young virgi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ied to keep him wa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came his nur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plotted to seize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onijah was David’s fourth 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ected to be the next king – Amnon, Chileab and Absalom were de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said, “I will be k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knew Solomon was to be the k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sembled Joab, Abiathar, his brothers, and some of David’s officia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anned to conduct a special sacrifice at En-rog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, Benaiah, the mighty men and Solomon were not inv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Counterplot By Nathan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0-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revealed the plot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d a plan to counter the rebell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hsheba told David about the plot and that Adonija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confirmed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e Command By David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28-40; 1 Chron. 29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made an oath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ordered Solomon to be anointed king 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is to ride in on David’s mu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nounce: “Long live King Solomon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dok, the high priest, did exactly as David instru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elebration among the people of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41-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’s people heard the cele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than, Abiathar’s son, brought the news to Adon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feared for his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veryone fl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held on to the altar hor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asked for mercy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lomon let him live on condi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bowed before Solomon and went ho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6:58:45Z</dcterms:created>
  <dc:creator>Frank D Vines</dc:creator>
  <dc:description/>
  <dc:language>en-US</dc:language>
  <cp:lastModifiedBy>Frank D Vines</cp:lastModifiedBy>
  <cp:lastPrinted>2005-04-26T19:53:42Z</cp:lastPrinted>
  <dcterms:modified xsi:type="dcterms:W3CDTF">2005-07-31T13:15:17Z</dcterms:modified>
  <cp:revision>19</cp:revision>
  <dc:subject/>
  <dc:title>GIVE US A KING The United Kingdom, Part 2</dc:title>
</cp:coreProperties>
</file>